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40D-872B-4AC6-9837-1909DDA0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1A5-0169-4F00-BD1E-360C3AC1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1D0-755E-46B7-9759-0746569B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FF5-ADB4-4118-B964-D23C3D9B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E0A-6A86-4E83-A6A8-545D018B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958-9E0C-4838-BF1C-5BB57DEF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1F9-0D36-46D1-ABE2-473A194D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331-EF58-4D6D-9317-007BDA8A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31A-CA39-4D77-A2D7-C848DB35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8C2-1D67-4D12-B317-E164C42A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6C6-41BF-4732-93E5-487280E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C7E-8BF1-4760-985B-73AEBDE8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8DF2-345D-4708-86FA-0028E3E76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0" y="355320"/>
            <a:ext cx="90554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Barack Obama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99840" y="1912680"/>
            <a:ext cx="4397400" cy="49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amard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70240" y="2698920"/>
            <a:ext cx="3673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4280" y="1912680"/>
            <a:ext cx="4399200" cy="49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don’t take a dime of their money, and when I am president, they won’t find a job in my White Hous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rack Obama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4120" y="1692360"/>
            <a:ext cx="28573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13840" y="1828800"/>
            <a:ext cx="43974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don’t oppose all wars. What I am oppose to is a dumb war. What I am opposed to is a rash war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rack Obam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48440" y="1353960"/>
            <a:ext cx="401292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16440" y="1828800"/>
            <a:ext cx="43992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found this national debate, doubled, wrapped in a big bow waiting for me as I step into the Oval Offic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rack Obam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78040" y="1608120"/>
            <a:ext cx="31226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6440" y="1828800"/>
            <a:ext cx="43992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cannot swallow whole the view of Lincoln as the Great Emancipator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rack Obam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08120" y="1004760"/>
            <a:ext cx="33148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4280" y="1828800"/>
            <a:ext cx="43992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think when you spread the wealth around it’s good for everybod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rack Obama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94280" y="1862280"/>
            <a:ext cx="347328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6440" y="1828800"/>
            <a:ext cx="43992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mericans… still believe in a American where anything’s possible they just don’t think their leaders d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rack Obam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62280" y="1353960"/>
            <a:ext cx="343044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